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59054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25480" y="5753520"/>
            <a:ext cx="59054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5480" y="575352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51640" y="575352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22040" y="276840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18600" y="276840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25480" y="575352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22040" y="575352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818600" y="575352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25480" y="2768400"/>
            <a:ext cx="5905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59054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25480" y="634680"/>
            <a:ext cx="11353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25480" y="575352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25480" y="2768400"/>
            <a:ext cx="5905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51640" y="575352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25480" y="5753520"/>
            <a:ext cx="59054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59054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25480" y="5753520"/>
            <a:ext cx="59054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5480" y="575352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51640" y="575352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2040" y="276840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8600" y="276840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25480" y="575352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822040" y="575352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818600" y="575352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25480" y="2768400"/>
            <a:ext cx="5905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59054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59054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25480" y="634680"/>
            <a:ext cx="11353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5480" y="575352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51640" y="575352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25480" y="5753520"/>
            <a:ext cx="59054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59054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25480" y="5753520"/>
            <a:ext cx="59054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5480" y="575352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851640" y="575352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822040" y="276840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18600" y="276840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25480" y="575352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822040" y="575352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818600" y="5753520"/>
            <a:ext cx="19011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25480" y="634680"/>
            <a:ext cx="11353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25480" y="575352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51640" y="575352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51640" y="2768400"/>
            <a:ext cx="2881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5480" y="5753520"/>
            <a:ext cx="59054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24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dd540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5480" y="2768400"/>
            <a:ext cx="59054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301320" indent="-301320">
              <a:lnSpc>
                <a:spcPct val="110000"/>
              </a:lnSpc>
              <a:spcBef>
                <a:spcPts val="24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76552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  <a:p>
            <a:pPr lvl="1" marL="663480" indent="-301320">
              <a:lnSpc>
                <a:spcPct val="110000"/>
              </a:lnSpc>
              <a:spcBef>
                <a:spcPts val="24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76552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  <a:p>
            <a:pPr lvl="2" marL="1025640" indent="-301320">
              <a:lnSpc>
                <a:spcPct val="110000"/>
              </a:lnSpc>
              <a:spcBef>
                <a:spcPts val="24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76552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  <a:p>
            <a:pPr lvl="3" marL="1387440" indent="-301320">
              <a:lnSpc>
                <a:spcPct val="110000"/>
              </a:lnSpc>
              <a:spcBef>
                <a:spcPts val="24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76552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  <a:p>
            <a:pPr lvl="4" marL="1749240" indent="-301320">
              <a:lnSpc>
                <a:spcPct val="110000"/>
              </a:lnSpc>
              <a:spcBef>
                <a:spcPts val="24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76552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  <a:p>
            <a:pPr lvl="5" marL="1749240" indent="-30132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76552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  <a:p>
            <a:pPr lvl="6" marL="1749240" indent="-301320">
              <a:lnSpc>
                <a:spcPct val="110000"/>
              </a:lnSpc>
              <a:spcBef>
                <a:spcPts val="2401"/>
              </a:spcBef>
              <a:buClr>
                <a:srgbClr val="000000"/>
              </a:buClr>
              <a:buSzPct val="150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76552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5480" y="7467120"/>
            <a:ext cx="11353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fad697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fad69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25480" y="8597880"/>
            <a:ext cx="11353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marL="54720"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600" spc="-1" strike="noStrike">
                <a:solidFill>
                  <a:srgbClr val="fad697"/>
                </a:solidFill>
                <a:latin typeface="Georgia"/>
              </a:rPr>
              <a:t>Click to edit the outline text format</a:t>
            </a:r>
            <a:endParaRPr b="0" i="1" lang="en-US" sz="3600" spc="-1" strike="noStrike">
              <a:solidFill>
                <a:srgbClr val="fad697"/>
              </a:solidFill>
              <a:latin typeface="Georgia"/>
            </a:endParaRPr>
          </a:p>
          <a:p>
            <a:pPr lvl="1" marL="54720" indent="-54720" algn="ctr">
              <a:buClr>
                <a:srgbClr val="fad697"/>
              </a:buClr>
              <a:buFont typeface="Georgia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600" spc="-1" strike="noStrike">
                <a:solidFill>
                  <a:srgbClr val="fad697"/>
                </a:solidFill>
                <a:latin typeface="Georgia"/>
              </a:rPr>
              <a:t>Second Outline Level</a:t>
            </a:r>
            <a:endParaRPr b="0" i="1" lang="en-US" sz="3600" spc="-1" strike="noStrike">
              <a:solidFill>
                <a:srgbClr val="fad697"/>
              </a:solidFill>
              <a:latin typeface="Georgia"/>
            </a:endParaRPr>
          </a:p>
          <a:p>
            <a:pPr lvl="2" marL="54720" indent="-54720" algn="ctr">
              <a:buClr>
                <a:srgbClr val="fad697"/>
              </a:buClr>
              <a:buFont typeface="Georgia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600" spc="-1" strike="noStrike">
                <a:solidFill>
                  <a:srgbClr val="fad697"/>
                </a:solidFill>
                <a:latin typeface="Georgia"/>
              </a:rPr>
              <a:t>Third Outline Level</a:t>
            </a:r>
            <a:endParaRPr b="0" i="1" lang="en-US" sz="3600" spc="-1" strike="noStrike">
              <a:solidFill>
                <a:srgbClr val="fad697"/>
              </a:solidFill>
              <a:latin typeface="Georgia"/>
            </a:endParaRPr>
          </a:p>
          <a:p>
            <a:pPr lvl="3" marL="54720" indent="-54720" algn="ctr">
              <a:buClr>
                <a:srgbClr val="fad697"/>
              </a:buClr>
              <a:buFont typeface="Georgia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600" spc="-1" strike="noStrike">
                <a:solidFill>
                  <a:srgbClr val="fad697"/>
                </a:solidFill>
                <a:latin typeface="Georgia"/>
              </a:rPr>
              <a:t>Fourth Outline Level</a:t>
            </a:r>
            <a:endParaRPr b="0" i="1" lang="en-US" sz="3600" spc="-1" strike="noStrike">
              <a:solidFill>
                <a:srgbClr val="fad697"/>
              </a:solidFill>
              <a:latin typeface="Georgia"/>
            </a:endParaRPr>
          </a:p>
          <a:p>
            <a:pPr lvl="4" marL="54720" indent="-54720" algn="ctr">
              <a:buClr>
                <a:srgbClr val="fad697"/>
              </a:buClr>
              <a:buFont typeface="Georgia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600" spc="-1" strike="noStrike">
                <a:solidFill>
                  <a:srgbClr val="fad697"/>
                </a:solidFill>
                <a:latin typeface="Georgia"/>
              </a:rPr>
              <a:t>Fifth Outline Level</a:t>
            </a:r>
            <a:endParaRPr b="0" i="1" lang="en-US" sz="3600" spc="-1" strike="noStrike">
              <a:solidFill>
                <a:srgbClr val="fad697"/>
              </a:solidFill>
              <a:latin typeface="Georgia"/>
            </a:endParaRPr>
          </a:p>
          <a:p>
            <a:pPr lvl="5" marL="54720" indent="-54720" algn="ctr">
              <a:buClr>
                <a:srgbClr val="000000"/>
              </a:buClr>
              <a:buFont typeface="Georgia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600" spc="-1" strike="noStrike">
                <a:solidFill>
                  <a:srgbClr val="fad697"/>
                </a:solidFill>
                <a:latin typeface="Georgia"/>
              </a:rPr>
              <a:t>Sixth Outline Level</a:t>
            </a:r>
            <a:endParaRPr b="0" i="1" lang="en-US" sz="3600" spc="-1" strike="noStrike">
              <a:solidFill>
                <a:srgbClr val="fad697"/>
              </a:solidFill>
              <a:latin typeface="Georgia"/>
            </a:endParaRPr>
          </a:p>
          <a:p>
            <a:pPr lvl="6" marL="54720" indent="-54720" algn="ctr">
              <a:buClr>
                <a:srgbClr val="000000"/>
              </a:buClr>
              <a:buFont typeface="Georgia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600" spc="-1" strike="noStrike">
                <a:solidFill>
                  <a:srgbClr val="fad697"/>
                </a:solidFill>
                <a:latin typeface="Georgia"/>
              </a:rPr>
              <a:t>Seventh Outline Level</a:t>
            </a:r>
            <a:endParaRPr b="0" i="1" lang="en-US" sz="3600" spc="-1" strike="noStrike">
              <a:solidFill>
                <a:srgbClr val="fad697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dd540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25480" y="2413080"/>
            <a:ext cx="11353680" cy="670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38760" indent="-338760">
              <a:lnSpc>
                <a:spcPct val="110000"/>
              </a:lnSpc>
              <a:spcBef>
                <a:spcPts val="42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876552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876552"/>
              </a:solidFill>
              <a:latin typeface="Georgia"/>
            </a:endParaRPr>
          </a:p>
          <a:p>
            <a:pPr lvl="1" marL="678240" indent="-339120">
              <a:lnSpc>
                <a:spcPct val="110000"/>
              </a:lnSpc>
              <a:spcBef>
                <a:spcPts val="42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876552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876552"/>
              </a:solidFill>
              <a:latin typeface="Georgia"/>
            </a:endParaRPr>
          </a:p>
          <a:p>
            <a:pPr lvl="2" marL="1017000" indent="-338760">
              <a:lnSpc>
                <a:spcPct val="110000"/>
              </a:lnSpc>
              <a:spcBef>
                <a:spcPts val="42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876552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876552"/>
              </a:solidFill>
              <a:latin typeface="Georgia"/>
            </a:endParaRPr>
          </a:p>
          <a:p>
            <a:pPr lvl="3" marL="1356120" indent="-338760">
              <a:lnSpc>
                <a:spcPct val="110000"/>
              </a:lnSpc>
              <a:spcBef>
                <a:spcPts val="42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876552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876552"/>
              </a:solidFill>
              <a:latin typeface="Georgia"/>
            </a:endParaRPr>
          </a:p>
          <a:p>
            <a:pPr lvl="4" marL="1695240" indent="-339120">
              <a:lnSpc>
                <a:spcPct val="110000"/>
              </a:lnSpc>
              <a:spcBef>
                <a:spcPts val="42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876552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876552"/>
              </a:solidFill>
              <a:latin typeface="Georgia"/>
            </a:endParaRPr>
          </a:p>
          <a:p>
            <a:pPr lvl="5" marL="1695240" indent="-339120">
              <a:lnSpc>
                <a:spcPct val="110000"/>
              </a:lnSpc>
              <a:spcBef>
                <a:spcPts val="4201"/>
              </a:spcBef>
              <a:buClr>
                <a:srgbClr val="000000"/>
              </a:buClr>
              <a:buSzPct val="150000"/>
              <a:buFont typeface="Georgi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876552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876552"/>
              </a:solidFill>
              <a:latin typeface="Georgia"/>
            </a:endParaRPr>
          </a:p>
          <a:p>
            <a:pPr lvl="6" marL="1695240" indent="-339120">
              <a:lnSpc>
                <a:spcPct val="110000"/>
              </a:lnSpc>
              <a:spcBef>
                <a:spcPts val="4201"/>
              </a:spcBef>
              <a:buClr>
                <a:srgbClr val="000000"/>
              </a:buClr>
              <a:buSzPct val="150000"/>
              <a:buFont typeface="Georgi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876552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InsertedImage.jpg"/>
          <p:cNvPicPr/>
          <p:nvPr/>
        </p:nvPicPr>
        <p:blipFill>
          <a:blip r:embed="rId2"/>
          <a:srcRect l="0" t="10168" r="0" b="10168"/>
          <a:stretch/>
        </p:blipFill>
        <p:spPr>
          <a:xfrm>
            <a:off x="1650960" y="888840"/>
            <a:ext cx="9753480" cy="6324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5480" y="7467120"/>
            <a:ext cx="11353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fad697"/>
                </a:solidFill>
                <a:latin typeface="Georgia"/>
              </a:rPr>
              <a:t>Immigration</a:t>
            </a:r>
            <a:endParaRPr b="0" lang="en-US" sz="7200" spc="-1" strike="noStrike">
              <a:solidFill>
                <a:srgbClr val="fad697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5480" y="8597880"/>
            <a:ext cx="1135368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600" spc="-1" strike="noStrike">
                <a:solidFill>
                  <a:srgbClr val="fad697"/>
                </a:solidFill>
                <a:latin typeface="Georgia"/>
              </a:rPr>
              <a:t>And Making Assumptions</a:t>
            </a:r>
            <a:endParaRPr b="0" i="1" lang="en-US" sz="3600" spc="-1" strike="noStrike">
              <a:solidFill>
                <a:srgbClr val="fad697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dd5400"/>
                </a:solidFill>
                <a:latin typeface="Georgia"/>
              </a:rPr>
              <a:t>Call To Order</a:t>
            </a: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5480" y="2413080"/>
            <a:ext cx="11353680" cy="670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lnSpc>
                <a:spcPct val="110000"/>
              </a:lnSpc>
              <a:spcBef>
                <a:spcPts val="42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876552"/>
                </a:solidFill>
                <a:latin typeface="Georgia"/>
              </a:rPr>
              <a:t>What do you think it is like to immigrate to the United States?</a:t>
            </a:r>
            <a:endParaRPr b="0" lang="en-US" sz="3600" spc="-1" strike="noStrike">
              <a:solidFill>
                <a:srgbClr val="876552"/>
              </a:solidFill>
              <a:latin typeface="Georgia"/>
            </a:endParaRPr>
          </a:p>
          <a:p>
            <a:pPr marL="380880" indent="-380880">
              <a:lnSpc>
                <a:spcPct val="110000"/>
              </a:lnSpc>
              <a:spcBef>
                <a:spcPts val="42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876552"/>
                </a:solidFill>
                <a:latin typeface="Georgia"/>
              </a:rPr>
              <a:t>What assumptions do you make about people who immigrate to the United States?</a:t>
            </a:r>
            <a:endParaRPr b="0" lang="en-US" sz="36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InsertedImage.jpg"/>
          <p:cNvPicPr/>
          <p:nvPr/>
        </p:nvPicPr>
        <p:blipFill>
          <a:blip r:embed="rId2"/>
          <a:srcRect l="-391" t="0" r="-391" b="0"/>
          <a:stretch/>
        </p:blipFill>
        <p:spPr>
          <a:xfrm>
            <a:off x="7091280" y="3127320"/>
            <a:ext cx="5048280" cy="5008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5480" y="634680"/>
            <a:ext cx="11353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dd5400"/>
                </a:solidFill>
                <a:latin typeface="Georgia"/>
              </a:rPr>
              <a:t>Video Clip</a:t>
            </a:r>
            <a:endParaRPr b="0" lang="en-US" sz="7200" spc="-1" strike="noStrike">
              <a:solidFill>
                <a:srgbClr val="dd5400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5480" y="2768400"/>
            <a:ext cx="59054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07800" indent="-307800">
              <a:lnSpc>
                <a:spcPct val="110000"/>
              </a:lnSpc>
              <a:spcBef>
                <a:spcPts val="24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76552"/>
                </a:solidFill>
                <a:latin typeface="Georgia"/>
              </a:rPr>
              <a:t>What assumptions did Chimamanda's roommate make about her because she was African?</a:t>
            </a: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  <a:p>
            <a:pPr marL="307800" indent="-307800">
              <a:lnSpc>
                <a:spcPct val="110000"/>
              </a:lnSpc>
              <a:spcBef>
                <a:spcPts val="24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76552"/>
                </a:solidFill>
                <a:latin typeface="Georgia"/>
              </a:rPr>
              <a:t>What assumptions did Chimamanda's professor make about her when she shared her first novel with him?</a:t>
            </a: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  <a:p>
            <a:pPr marL="307800" indent="-307800">
              <a:lnSpc>
                <a:spcPct val="110000"/>
              </a:lnSpc>
              <a:spcBef>
                <a:spcPts val="2401"/>
              </a:spcBef>
              <a:buClr>
                <a:srgbClr val="876552"/>
              </a:buClr>
              <a:buSzPct val="150000"/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76552"/>
                </a:solidFill>
                <a:latin typeface="Georgia"/>
              </a:rPr>
              <a:t>Why were these assumptions made?</a:t>
            </a:r>
            <a:endParaRPr b="0" lang="en-US" sz="3000" spc="-1" strike="noStrike">
              <a:solidFill>
                <a:srgbClr val="876552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lly Zeins</cp:lastModifiedBy>
  <dcterms:modified xsi:type="dcterms:W3CDTF">2011-12-19T04:08:27Z</dcterms:modified>
  <cp:revision>1</cp:revision>
  <dc:subject/>
  <dc:title>Immigration</dc:title>
</cp:coreProperties>
</file>